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C943-001A-40F8-BD9A-1A621E8A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9CFE-9D0D-4B64-9B07-A9CD0606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C0A-7C61-4512-8554-CDE4FBB4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ADD2-1393-40D6-B5EA-75418D1B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F11-76DF-4E15-93A8-499D6F80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487-818D-4BD6-A0FE-6A1D7006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E2ED-12CE-418F-BB11-88D7A64C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1C33-332B-4A08-8138-D556768C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FCE9-66B5-48F0-B245-35069DB5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7016-58D7-4A44-B85E-FE86D71D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3397-5AC2-4D63-BFC4-6D053418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435B-738B-4073-80C4-2EFBC77D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2a76"/>
            </a:gs>
            <a:gs pos="100000">
              <a:srgbClr val="4a1f5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93DA-489C-471B-A73B-2E29E73299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900ec"/>
            </a:gs>
            <a:gs pos="100000">
              <a:srgbClr val="1300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600200"/>
            <a:ext cx="85345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en lead, women ech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to Thee, O Lord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 I lift up my soul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2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 my Go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trust in Th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ll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h, let me not be ashamed, let not m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emies triumph over 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Unto Thee, O L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900ec"/>
            </a:gs>
            <a:gs pos="100000">
              <a:srgbClr val="1300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380880"/>
            <a:ext cx="64767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member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sins of my youth.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2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 my Go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trust in Th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h, let me not be ashamed, let not my enemies triumph over 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900ec"/>
            </a:gs>
            <a:gs pos="100000">
              <a:srgbClr val="1300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304920"/>
            <a:ext cx="80769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to Thee, O Lord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 I lift up my soul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2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 my Go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trust in Th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h, let me not be ashamed, let not my enemies triumph over 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22:21:05Z</dcterms:created>
  <dc:creator>Peter Rivezzo</dc:creator>
  <dc:description/>
  <dc:language>en-US</dc:language>
  <cp:lastModifiedBy>Peter Rivezzo</cp:lastModifiedBy>
  <dcterms:modified xsi:type="dcterms:W3CDTF">2010-02-13T22:21:05Z</dcterms:modified>
  <cp:revision>1</cp:revision>
  <dc:subject/>
  <dc:title>Slide 1</dc:title>
</cp:coreProperties>
</file>